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C33-FDB1-414B-9562-380D819A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4F7-2822-4526-9438-580ABBB1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738-5F8A-4089-A052-A6061DD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3F1-4CFF-484A-8FBD-31FA9DD9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BDE-052B-42C4-8569-7B97417F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B1C-B30E-4548-9A3E-ADFB78F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034-E88D-49EA-AFA7-9C9E1BE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469-72EA-4895-8164-1EA532A2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339-370A-4E06-B2F2-C840DD2A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EA6-7A39-43EE-B14F-A2D34A6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3C2-5B85-4E6F-9BE6-4960C97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459-5089-40F6-BC11-0F77F54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5C372F-6DEB-439F-A060-CD64F0E6B9A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8B182F-4570-4804-BDB8-9EF7EA3D20A1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AE3F16-5811-483C-AE3B-F07C1C7F5DA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CF51A5-6A47-4ECE-B50B-8D25B04209C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A71BC4-36BE-44BC-B0D6-B77F24A5EAE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000095-E148-462B-B11E-EA3ABFFC914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B5F003-4E39-4DED-A276-FF912DEC482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FB1062-E1E8-485D-9A29-B94339BA4CD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59889D-D54A-4473-89C6-018ADDAB681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07E3CA-66BA-4CEB-9F5D-EE7A460AF61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15596E-ED85-4313-85A2-4F5B72FE162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5B583A-9763-4279-BDA0-EB895D6F1CA5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CC82F7-5423-4A79-BFBD-8B3C9DAA75F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78DE7D-F44F-4C11-83F3-7DDDB029C58E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95280" y="1197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395280" y="112392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Conselhos que não foram reativados por falta de representantes da</a:t>
            </a: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 Sociedade Civil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lm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uaru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 algn="ctr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ano de 2013 foi discutida no âmbito do CNP, com aprofundamento em grupo de trabalho, a propost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nteprojeto de Le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fim de alterar a Lei nº 8.213, de 24 de julho de 1991, para dispor sobre o Conselho Nacional de Previdência – CNP gerando uma maior representatividade às Centrais Sindicais e Confederaçõ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o retorno às discussões é amplamente pleiteado pelos representantes da UGT, CTB e CSB no Conse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ítulo 1"/>
          <p:cNvSpPr/>
          <p:nvPr/>
        </p:nvSpPr>
        <p:spPr>
          <a:xfrm>
            <a:off x="457200" y="981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RECOMPOSIÇÃO DO CONSEL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A partir da nova proposta, a representação do CNP terá 30 (trinta) membros titulares, se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 Governo Federal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a sociedade civil, se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aposentados e pens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trabalhadores em atividade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empreg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5-03-12T22:39:06Z</cp:lastPrinted>
  <dcterms:modified xsi:type="dcterms:W3CDTF">2016-11-17T22:25:51Z</dcterms:modified>
  <cp:revision>259</cp:revision>
  <dc:subject/>
  <dc:title>Slide 1</dc:title>
</cp:coreProperties>
</file>